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E092-967F-4ECF-A9E1-6E6D94E6ED0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D2CA-D95B-4320-B27F-632FC227641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EF6-F7DB-4653-A48A-BB0B786C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23E-ECBD-4FA8-84F4-E9CFF6AE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F3C-D75F-4663-BE90-21549AA4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84C-BC7E-4D13-9C6F-4D2C3C52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DA5-7DF2-42E8-BC28-38A225D4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0FF-BFD9-40F7-ABD0-83A43107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57F-F9D9-4ACC-88B8-3BBBEC0B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686-FCEE-4699-B218-99014988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8F2-7046-41B1-870D-6A578151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817-C453-4832-95BB-EDE844E5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717-7264-47D9-9867-EBC5F341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FE5-94E0-4417-A5DA-4602AF5B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4578-456A-4714-97DB-E91A4BD31EB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3"/>
          <p:cNvSpPr/>
          <p:nvPr/>
        </p:nvSpPr>
        <p:spPr>
          <a:xfrm>
            <a:off x="-146160" y="324000"/>
            <a:ext cx="9422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Ti racconto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la croc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4"/>
          <p:cNvSpPr/>
          <p:nvPr/>
        </p:nvSpPr>
        <p:spPr>
          <a:xfrm>
            <a:off x="-676080" y="5084640"/>
            <a:ext cx="103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LTSalamanderDbl Medium"/>
              </a:rPr>
              <a:t>Lo sguardo di Gesù verso i suoi discepo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ttangolo 3"/>
          <p:cNvSpPr/>
          <p:nvPr/>
        </p:nvSpPr>
        <p:spPr>
          <a:xfrm>
            <a:off x="539640" y="40464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c000"/>
                </a:solidFill>
                <a:latin typeface="LTSalamanderDbl Medium"/>
              </a:rPr>
              <a:t>Gesto di carit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LTSalamanderDbl Medium"/>
              </a:rPr>
              <a:t>Penso a chi è meno fortunato di m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tangolo 4"/>
          <p:cNvSpPr/>
          <p:nvPr/>
        </p:nvSpPr>
        <p:spPr>
          <a:xfrm>
            <a:off x="4067280" y="2492280"/>
            <a:ext cx="4749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DON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DELL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PAST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www.pastificiosebastianodapuzzo.com/public/ImageDoc_33_DSC_0095.JPG"/>
          <p:cNvPicPr/>
          <p:nvPr/>
        </p:nvPicPr>
        <p:blipFill>
          <a:blip r:embed="rId1"/>
          <a:stretch/>
        </p:blipFill>
        <p:spPr>
          <a:xfrm>
            <a:off x="755640" y="3141720"/>
            <a:ext cx="37749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2" descr="Lc 19 - Oggi la salvezza è entrata in questa casa2.jpg"/>
          <p:cNvPicPr/>
          <p:nvPr/>
        </p:nvPicPr>
        <p:blipFill>
          <a:blip r:embed="rId1"/>
          <a:stretch/>
        </p:blipFill>
        <p:spPr>
          <a:xfrm>
            <a:off x="0" y="-44280"/>
            <a:ext cx="4800600" cy="690228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4859280" y="274680"/>
            <a:ext cx="4105440" cy="88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Signore Gesù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i sappiamo che il Tuo sguar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è sempre sguardo di amor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che i tuoi occh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n giudicano e non condann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ma ci vogliono aiut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a riconoscere ciò che non 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ella nostra vita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Con tutti hai saputo ricerc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il “buono” che c’era nel loro cu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Anche con Zaccheo hai fatto così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hai preferito fare il primo pas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e puntare sul suo deside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di felicità e di gio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a è la logica della CROC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o è il modo che anche n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vogliamo imparare a viv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questo siamo qu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imparare dalla tua CROC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1"/>
          <p:cNvSpPr/>
          <p:nvPr/>
        </p:nvSpPr>
        <p:spPr>
          <a:xfrm>
            <a:off x="-240840" y="692280"/>
            <a:ext cx="9679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Prim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GESÚ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LAVA I PIEDI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AI SUOI DISCEPOL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2" descr="Gv 13 - La lavanda dei piedi4.jpg"/>
          <p:cNvPicPr/>
          <p:nvPr/>
        </p:nvPicPr>
        <p:blipFill>
          <a:blip r:embed="rId1"/>
          <a:stretch/>
        </p:blipFill>
        <p:spPr>
          <a:xfrm>
            <a:off x="2225520" y="-41400"/>
            <a:ext cx="4867560" cy="6899400"/>
          </a:xfrm>
          <a:prstGeom prst="rect">
            <a:avLst/>
          </a:prstGeom>
          <a:ln w="0">
            <a:noFill/>
          </a:ln>
        </p:spPr>
      </p:pic>
      <p:cxnSp>
        <p:nvCxnSpPr>
          <p:cNvPr id="54" name="Connettore 2 4"/>
          <p:cNvCxnSpPr/>
          <p:nvPr/>
        </p:nvCxnSpPr>
        <p:spPr>
          <a:xfrm flipV="1">
            <a:off x="1402920" y="4723920"/>
            <a:ext cx="793080" cy="21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" name="CasellaDiTesto 6"/>
          <p:cNvSpPr/>
          <p:nvPr/>
        </p:nvSpPr>
        <p:spPr>
          <a:xfrm>
            <a:off x="402480" y="4292640"/>
            <a:ext cx="123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è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 ginocchi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ina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i pie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Pietr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ttore 2 7"/>
          <p:cNvCxnSpPr/>
          <p:nvPr/>
        </p:nvCxnSpPr>
        <p:spPr>
          <a:xfrm flipH="1" flipV="1">
            <a:off x="5724000" y="4941720"/>
            <a:ext cx="1656720" cy="648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7" name="CasellaDiTesto 9"/>
          <p:cNvSpPr/>
          <p:nvPr/>
        </p:nvSpPr>
        <p:spPr>
          <a:xfrm>
            <a:off x="7441920" y="5013360"/>
            <a:ext cx="123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suo vo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 specch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el ca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’acqua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ttore 2 10"/>
          <p:cNvCxnSpPr/>
          <p:nvPr/>
        </p:nvCxnSpPr>
        <p:spPr>
          <a:xfrm flipH="1">
            <a:off x="5148000" y="1699200"/>
            <a:ext cx="2016720" cy="57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" name="CasellaDiTesto 12"/>
          <p:cNvSpPr/>
          <p:nvPr/>
        </p:nvSpPr>
        <p:spPr>
          <a:xfrm>
            <a:off x="7128000" y="476280"/>
            <a:ext cx="1969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ietro con una 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mbra allontan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con l’altr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ulle sue spal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mbra dire a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o biso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questo tuo g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amo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un poveraccio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ttore 2 13"/>
          <p:cNvCxnSpPr/>
          <p:nvPr/>
        </p:nvCxnSpPr>
        <p:spPr>
          <a:xfrm flipV="1">
            <a:off x="1619280" y="1557000"/>
            <a:ext cx="1440360" cy="504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1" name="CasellaDiTesto 15"/>
          <p:cNvSpPr/>
          <p:nvPr/>
        </p:nvSpPr>
        <p:spPr>
          <a:xfrm>
            <a:off x="110520" y="1052640"/>
            <a:ext cx="1706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pane e il v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ul quel tav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fanno da s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la scena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 sta compie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lì a d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la rag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questo g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l’amore di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FINO ALLA 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1"/>
          <p:cNvSpPr/>
          <p:nvPr/>
        </p:nvSpPr>
        <p:spPr>
          <a:xfrm>
            <a:off x="61920" y="476280"/>
            <a:ext cx="907452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Second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GESÚ DO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AI DISCEPOL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IL SUO COR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 </a:t>
            </a: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E IL SUO SANGU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4" descr="Mt 26 - L'ultima cena1.jpg"/>
          <p:cNvPicPr/>
          <p:nvPr/>
        </p:nvPicPr>
        <p:blipFill>
          <a:blip r:embed="rId1"/>
          <a:stretch/>
        </p:blipFill>
        <p:spPr>
          <a:xfrm>
            <a:off x="971640" y="1106640"/>
            <a:ext cx="6729480" cy="4626000"/>
          </a:xfrm>
          <a:prstGeom prst="rect">
            <a:avLst/>
          </a:prstGeom>
          <a:ln w="0">
            <a:noFill/>
          </a:ln>
        </p:spPr>
      </p:pic>
      <p:cxnSp>
        <p:nvCxnSpPr>
          <p:cNvPr id="64" name="Connettore 2 5"/>
          <p:cNvCxnSpPr/>
          <p:nvPr/>
        </p:nvCxnSpPr>
        <p:spPr>
          <a:xfrm flipV="1">
            <a:off x="2340000" y="5373000"/>
            <a:ext cx="1728000" cy="57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" name="CasellaDiTesto 6"/>
          <p:cNvSpPr/>
          <p:nvPr/>
        </p:nvSpPr>
        <p:spPr>
          <a:xfrm>
            <a:off x="539640" y="595008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nche qui  il volto di Gesù è rifl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el rosso del vino del cal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volto dell’amore donato per tutti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>
            <a:off x="1619280" y="907920"/>
            <a:ext cx="1658160" cy="1153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" name="CasellaDiTesto 10"/>
          <p:cNvSpPr/>
          <p:nvPr/>
        </p:nvSpPr>
        <p:spPr>
          <a:xfrm>
            <a:off x="539640" y="85680"/>
            <a:ext cx="52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 discepoli mostrano atteggiamenti diver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’è chi  ha capito che stava succedendo qualcosa di gr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c’è chi sembra indifferente, chi sembra lontano da tutto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11"/>
          <p:cNvCxnSpPr/>
          <p:nvPr/>
        </p:nvCxnSpPr>
        <p:spPr>
          <a:xfrm flipH="1" flipV="1">
            <a:off x="7019640" y="1915920"/>
            <a:ext cx="1008720" cy="21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" name="CasellaDiTesto 13"/>
          <p:cNvSpPr/>
          <p:nvPr/>
        </p:nvSpPr>
        <p:spPr>
          <a:xfrm>
            <a:off x="7612560" y="1558800"/>
            <a:ext cx="146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po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’è Gi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usce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suo cu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 già tradi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la p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iù bu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 quad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d era nott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ce il Vange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i allonta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a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i nel bu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a not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ttore 2 14"/>
          <p:cNvCxnSpPr/>
          <p:nvPr/>
        </p:nvCxnSpPr>
        <p:spPr>
          <a:xfrm flipV="1">
            <a:off x="5507640" y="4723560"/>
            <a:ext cx="216360" cy="1081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" name="CasellaDiTesto 19"/>
          <p:cNvSpPr/>
          <p:nvPr/>
        </p:nvSpPr>
        <p:spPr>
          <a:xfrm>
            <a:off x="4788000" y="58388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apostolo Giovanni mette la sua 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pra il pane che Gesù gli sta porge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colui che accoglie con stupore il dono di Di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ttore 2 23"/>
          <p:cNvCxnSpPr/>
          <p:nvPr/>
        </p:nvCxnSpPr>
        <p:spPr>
          <a:xfrm flipH="1">
            <a:off x="5219280" y="981000"/>
            <a:ext cx="1729440" cy="1944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3" name="CasellaDiTesto 25"/>
          <p:cNvSpPr/>
          <p:nvPr/>
        </p:nvSpPr>
        <p:spPr>
          <a:xfrm>
            <a:off x="6012000" y="103320"/>
            <a:ext cx="30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pane spezzato forma la pr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ttera greca del nome di Cris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c’è l’ombra della croc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asellaDiTesto 1"/>
          <p:cNvSpPr/>
          <p:nvPr/>
        </p:nvSpPr>
        <p:spPr>
          <a:xfrm>
            <a:off x="-327960" y="531720"/>
            <a:ext cx="98506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Terz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500" spc="-1" strike="noStrike">
                <a:solidFill>
                  <a:srgbClr val="ffffff"/>
                </a:solidFill>
                <a:latin typeface="LTSalamanderDbl Medium"/>
              </a:rPr>
              <a:t>GESÚ PREGA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500" spc="-1" strike="noStrike">
                <a:solidFill>
                  <a:srgbClr val="ffffff"/>
                </a:solidFill>
                <a:latin typeface="LTSalamanderDbl Medium"/>
              </a:rPr>
              <a:t>NELL’ORTO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500" spc="-1" strike="noStrike">
                <a:solidFill>
                  <a:srgbClr val="ffffff"/>
                </a:solidFill>
                <a:latin typeface="LTSalamanderDbl Medium"/>
              </a:rPr>
              <a:t>DEGLI ULIVI MENTRE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500" spc="-1" strike="noStrike">
                <a:solidFill>
                  <a:srgbClr val="ffffff"/>
                </a:solidFill>
                <a:latin typeface="LTSalamanderDbl Medium"/>
              </a:rPr>
              <a:t>I DISCEPOLI DORMONO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magine 1" descr="Mt 26 - Al Getsemani3.jpg"/>
          <p:cNvPicPr/>
          <p:nvPr/>
        </p:nvPicPr>
        <p:blipFill>
          <a:blip r:embed="rId1"/>
          <a:stretch/>
        </p:blipFill>
        <p:spPr>
          <a:xfrm>
            <a:off x="2054160" y="0"/>
            <a:ext cx="50356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76" name="Connettore 2 2"/>
          <p:cNvCxnSpPr/>
          <p:nvPr/>
        </p:nvCxnSpPr>
        <p:spPr>
          <a:xfrm>
            <a:off x="1619280" y="2637000"/>
            <a:ext cx="1658160" cy="576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" name="CasellaDiTesto 5"/>
          <p:cNvSpPr/>
          <p:nvPr/>
        </p:nvSpPr>
        <p:spPr>
          <a:xfrm>
            <a:off x="113760" y="1052640"/>
            <a:ext cx="1750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che pre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draiato  sul le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ul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la figura cent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questo quad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sua pregh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nten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gli sente su di 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utto il pecc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uom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ha pa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Connettore 2 6"/>
          <p:cNvCxnSpPr/>
          <p:nvPr/>
        </p:nvCxnSpPr>
        <p:spPr>
          <a:xfrm flipH="1">
            <a:off x="6587280" y="3933720"/>
            <a:ext cx="1080360" cy="432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" name="CasellaDiTesto 8"/>
          <p:cNvSpPr/>
          <p:nvPr/>
        </p:nvSpPr>
        <p:spPr>
          <a:xfrm>
            <a:off x="7050240" y="2924280"/>
            <a:ext cx="2017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 tre discepo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ietro, Giac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Giov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immer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 un so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ofo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on riescon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vegliare con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li cerc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ché ha biso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sen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calore e la vicin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amic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lo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on si accorgon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Connettore 2 9"/>
          <p:cNvCxnSpPr/>
          <p:nvPr/>
        </p:nvCxnSpPr>
        <p:spPr>
          <a:xfrm flipH="1">
            <a:off x="5148000" y="1844640"/>
            <a:ext cx="2232720" cy="1729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CasellaDiTesto 12"/>
          <p:cNvSpPr/>
          <p:nvPr/>
        </p:nvSpPr>
        <p:spPr>
          <a:xfrm>
            <a:off x="7135200" y="112680"/>
            <a:ext cx="1980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’è una DIST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ra Gesù e i discepol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speri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ià in que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imi pas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a sua Pas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solitud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l’abband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apostol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3"/>
          <p:cNvSpPr/>
          <p:nvPr/>
        </p:nvSpPr>
        <p:spPr>
          <a:xfrm>
            <a:off x="-150840" y="404640"/>
            <a:ext cx="70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ndara"/>
              </a:rPr>
              <a:t>Oggi, Signore abbiamo capito qualcosa di più del tuo a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4" descr="2.jpg"/>
          <p:cNvPicPr/>
          <p:nvPr/>
        </p:nvPicPr>
        <p:blipFill>
          <a:blip r:embed="rId1"/>
          <a:stretch/>
        </p:blipFill>
        <p:spPr>
          <a:xfrm>
            <a:off x="444600" y="907920"/>
            <a:ext cx="1463400" cy="1717920"/>
          </a:xfrm>
          <a:prstGeom prst="rect">
            <a:avLst/>
          </a:prstGeom>
          <a:ln w="0">
            <a:noFill/>
          </a:ln>
        </p:spPr>
      </p:pic>
      <p:sp>
        <p:nvSpPr>
          <p:cNvPr id="84" name="CasellaDiTesto 5"/>
          <p:cNvSpPr/>
          <p:nvPr/>
        </p:nvSpPr>
        <p:spPr>
          <a:xfrm>
            <a:off x="1979640" y="981000"/>
            <a:ext cx="266364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È un amore che arriva fi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 donare la propria vit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roprio come dice l’evangelista Giovan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el Vangel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“… </a:t>
            </a: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ino alla fine”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magine 6" descr="1.jpg"/>
          <p:cNvPicPr/>
          <p:nvPr/>
        </p:nvPicPr>
        <p:blipFill>
          <a:blip r:embed="rId2"/>
          <a:stretch/>
        </p:blipFill>
        <p:spPr>
          <a:xfrm>
            <a:off x="7164360" y="1603440"/>
            <a:ext cx="1638360" cy="15382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7"/>
          <p:cNvSpPr/>
          <p:nvPr/>
        </p:nvSpPr>
        <p:spPr>
          <a:xfrm>
            <a:off x="4932360" y="1341360"/>
            <a:ext cx="21607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onaci lo stup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Pie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si accorge subi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non merita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questo amor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ma sa di aver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tanto bisogno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magine 8" descr="4.jpg"/>
          <p:cNvPicPr/>
          <p:nvPr/>
        </p:nvPicPr>
        <p:blipFill>
          <a:blip r:embed="rId3"/>
          <a:stretch/>
        </p:blipFill>
        <p:spPr>
          <a:xfrm>
            <a:off x="7451640" y="3860640"/>
            <a:ext cx="131760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9"/>
          <p:cNvSpPr/>
          <p:nvPr/>
        </p:nvSpPr>
        <p:spPr>
          <a:xfrm>
            <a:off x="4932360" y="3716280"/>
            <a:ext cx="23763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onaci l’amo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Giovan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apre il cu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er accogli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Il dono dell’Eucarest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comprende subi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si tratt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un dono immenso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magine 10" descr="5.jpg"/>
          <p:cNvPicPr/>
          <p:nvPr/>
        </p:nvPicPr>
        <p:blipFill>
          <a:blip r:embed="rId4"/>
          <a:stretch/>
        </p:blipFill>
        <p:spPr>
          <a:xfrm>
            <a:off x="395280" y="3429000"/>
            <a:ext cx="1916280" cy="17413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11"/>
          <p:cNvSpPr/>
          <p:nvPr/>
        </p:nvSpPr>
        <p:spPr>
          <a:xfrm>
            <a:off x="2340000" y="3429000"/>
            <a:ext cx="208764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ci , Signor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 non  farci vince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al sonn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ella pigriz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della str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iù facile e como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12"/>
          <p:cNvSpPr/>
          <p:nvPr/>
        </p:nvSpPr>
        <p:spPr>
          <a:xfrm>
            <a:off x="153360" y="5373720"/>
            <a:ext cx="49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ndara"/>
              </a:rPr>
              <a:t>I tuoi gesti e il tuo sgu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ndara"/>
              </a:rPr>
              <a:t>pieno d’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ndara"/>
              </a:rPr>
              <a:t>rapiscano sempre il nostro cu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20:36:32Z</dcterms:created>
  <dc:creator> </dc:creator>
  <dc:description/>
  <dc:language>en-US</dc:language>
  <cp:lastModifiedBy>Qumran2</cp:lastModifiedBy>
  <dcterms:modified xsi:type="dcterms:W3CDTF">2011-04-11T14:40:37Z</dcterms:modified>
  <cp:revision>28</cp:revision>
  <dc:subject/>
  <dc:title>Diapositiva 1</dc:title>
</cp:coreProperties>
</file>