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FAC-A78A-4CB7-91F8-8D8FDDF5BC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682-6B05-4D53-9420-F583C38A76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3D3-2C87-42BB-8722-D9C10E5C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A06-A1BF-402C-AA11-41E0613E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0F-AE92-48FC-B09E-A889C803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CC6-B056-4AFD-B647-5A452874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85D-48B1-4C23-8C58-513DA848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E1A-5D64-429B-839B-A79F9D5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95A-7C53-44CF-931C-2038E16E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DE5-F73A-4C14-B70F-02687F6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0DA-2935-4868-B5DB-C7B511A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DFC-016C-4AE6-9847-3F67036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C6B-200D-44A3-8389-4AF36CE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F53-BF1A-4E63-A34A-FE6FCC8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74F-CA18-4308-AB45-BBD20B6A520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1053360" y="4699080"/>
            <a:ext cx="68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LTSalamanderDbl Medium"/>
              </a:rPr>
              <a:t>Gli incontri di Ges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LTSalamanderDbl Medium"/>
              </a:rPr>
              <a:t>sulla via della cro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4" descr="Lc 23 - Gesù e la Veronica2.jpg"/>
          <p:cNvPicPr/>
          <p:nvPr/>
        </p:nvPicPr>
        <p:blipFill>
          <a:blip r:embed="rId1"/>
          <a:stretch/>
        </p:blipFill>
        <p:spPr>
          <a:xfrm>
            <a:off x="2124000" y="-100080"/>
            <a:ext cx="5112000" cy="7016760"/>
          </a:xfrm>
          <a:prstGeom prst="rect">
            <a:avLst/>
          </a:prstGeom>
          <a:ln w="0">
            <a:noFill/>
          </a:ln>
        </p:spPr>
      </p:pic>
      <p:cxnSp>
        <p:nvCxnSpPr>
          <p:cNvPr id="83" name="Connettore 2 2"/>
          <p:cNvCxnSpPr/>
          <p:nvPr/>
        </p:nvCxnSpPr>
        <p:spPr>
          <a:xfrm flipV="1">
            <a:off x="1907640" y="764280"/>
            <a:ext cx="1801080" cy="288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Connettore 2 5"/>
          <p:cNvCxnSpPr/>
          <p:nvPr/>
        </p:nvCxnSpPr>
        <p:spPr>
          <a:xfrm flipV="1">
            <a:off x="1908000" y="2923920"/>
            <a:ext cx="1872720" cy="1297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5" name="Connettore 2 8"/>
          <p:cNvCxnSpPr/>
          <p:nvPr/>
        </p:nvCxnSpPr>
        <p:spPr>
          <a:xfrm flipH="1">
            <a:off x="6300000" y="3715200"/>
            <a:ext cx="1296360" cy="1081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6" name="CasellaDiTesto 6"/>
          <p:cNvSpPr/>
          <p:nvPr/>
        </p:nvSpPr>
        <p:spPr>
          <a:xfrm>
            <a:off x="41040" y="268200"/>
            <a:ext cx="2235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gesto di q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onna, non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ccontato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angeli, ma 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unga tradizione 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ce che, sulla s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Calvario, qualc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avuto pietà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passione per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sfidato la folla 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ldati e si è fatta av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asciugare il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figurato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7"/>
          <p:cNvSpPr/>
          <p:nvPr/>
        </p:nvSpPr>
        <p:spPr>
          <a:xfrm>
            <a:off x="12600" y="4030560"/>
            <a:ext cx="2224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Gesù ricomp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l gesto di tenerezz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gli imprime sul lino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donna ha usato 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sciugarlo, il suo volto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o ci ricorda che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gnore Gesù 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asconde” dietro 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povero, ogni 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ti domanda bon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benevole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9"/>
          <p:cNvSpPr/>
          <p:nvPr/>
        </p:nvSpPr>
        <p:spPr>
          <a:xfrm>
            <a:off x="7308720" y="2924280"/>
            <a:ext cx="1835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l richiamo 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overtà: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un uomo che presentano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iotola vuo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seg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umanità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rida al Signore e che ci 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non ess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sensibi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volta… l’avete fatto a m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i ricorda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5"/>
          <p:cNvSpPr/>
          <p:nvPr/>
        </p:nvSpPr>
        <p:spPr>
          <a:xfrm>
            <a:off x="2268360" y="1144440"/>
            <a:ext cx="28083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bbiamo ringraziarti 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utti coloro che ci voglio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bene e che, nei momenti pi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ticosi, ci sono vicini, n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cappano ma rimangono 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ostro fianco per aiutarci 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dividere ciò che vivia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7"/>
          <p:cNvSpPr/>
          <p:nvPr/>
        </p:nvSpPr>
        <p:spPr>
          <a:xfrm>
            <a:off x="6443640" y="1197000"/>
            <a:ext cx="262908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Vogliamo pregarti per ch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mmette il male e n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vuole smettere; per ch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 il suo modo di fa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e tristi tante perso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i affidiamo le pers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tanno passando 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omento di fatica e d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fferenza. Sostienile c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la tua vicinanz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il tuo aiuto pote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9"/>
          <p:cNvSpPr/>
          <p:nvPr/>
        </p:nvSpPr>
        <p:spPr>
          <a:xfrm>
            <a:off x="6659640" y="4398840"/>
            <a:ext cx="23763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ti riconosc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 povero, in chi n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ha niente , ma anche 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i ci domanda un po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tempo, di am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i attenzio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ici persone 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i mettono a servizi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12"/>
          <p:cNvSpPr/>
          <p:nvPr/>
        </p:nvSpPr>
        <p:spPr>
          <a:xfrm>
            <a:off x="76320" y="5589720"/>
            <a:ext cx="466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Guidaci sempre su s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di carità, di solidarietà e di servi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magine 6" descr="Le mani di Maria e Gesù.jpg"/>
          <p:cNvPicPr/>
          <p:nvPr/>
        </p:nvPicPr>
        <p:blipFill>
          <a:blip r:embed="rId1"/>
          <a:stretch/>
        </p:blipFill>
        <p:spPr>
          <a:xfrm>
            <a:off x="289080" y="1200240"/>
            <a:ext cx="1920600" cy="180000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8" descr="Le donne di Gerusalemme.jpg"/>
          <p:cNvPicPr/>
          <p:nvPr/>
        </p:nvPicPr>
        <p:blipFill>
          <a:blip r:embed="rId2"/>
          <a:stretch/>
        </p:blipFill>
        <p:spPr>
          <a:xfrm>
            <a:off x="5148360" y="1197000"/>
            <a:ext cx="1224000" cy="294156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0"/>
          <p:cNvSpPr/>
          <p:nvPr/>
        </p:nvSpPr>
        <p:spPr>
          <a:xfrm>
            <a:off x="2556000" y="3521160"/>
            <a:ext cx="23763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d imit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mpre di più la tu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arità verso gli altri, e non considerare temp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precato, quello 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usiamo per aiutare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ere felici gli altr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1" descr="Simone e Gesù.jpg"/>
          <p:cNvPicPr/>
          <p:nvPr/>
        </p:nvPicPr>
        <p:blipFill>
          <a:blip r:embed="rId3"/>
          <a:stretch/>
        </p:blipFill>
        <p:spPr>
          <a:xfrm>
            <a:off x="330120" y="3630600"/>
            <a:ext cx="2225880" cy="167004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13" descr="Il volto di Cristo.jpg"/>
          <p:cNvPicPr/>
          <p:nvPr/>
        </p:nvPicPr>
        <p:blipFill>
          <a:blip r:embed="rId4"/>
          <a:stretch/>
        </p:blipFill>
        <p:spPr>
          <a:xfrm>
            <a:off x="5119560" y="4390920"/>
            <a:ext cx="1468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4"/>
          <p:cNvSpPr/>
          <p:nvPr/>
        </p:nvSpPr>
        <p:spPr>
          <a:xfrm>
            <a:off x="3564000" y="2924280"/>
            <a:ext cx="54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E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SCATOL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535400" y="692280"/>
            <a:ext cx="6127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NCONT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UA MAD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4" descr="Mc 15 - Maria e Gesù5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907640" y="3499920"/>
            <a:ext cx="1296360" cy="122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43200" y="4365720"/>
            <a:ext cx="2096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onosciamo sub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figura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l colore della tu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osso, segno d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uore pieno di am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imato dall’am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i amò fino alla fi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5"/>
          <p:cNvCxnSpPr>
            <a:stCxn id="57" idx="1"/>
          </p:cNvCxnSpPr>
          <p:nvPr/>
        </p:nvCxnSpPr>
        <p:spPr>
          <a:xfrm flipH="1" flipV="1">
            <a:off x="5795280" y="4291920"/>
            <a:ext cx="126900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7" name="CasellaDiTesto 9"/>
          <p:cNvSpPr/>
          <p:nvPr/>
        </p:nvSpPr>
        <p:spPr>
          <a:xfrm>
            <a:off x="7075080" y="4221000"/>
            <a:ext cx="2058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ltra fig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domina la s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Maria, la mad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stita di ver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lore della sper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ria ci inse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sperare anche 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tuazione più diffici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 sem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nulla sia poss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ttore 2 16"/>
          <p:cNvCxnSpPr/>
          <p:nvPr/>
        </p:nvCxnSpPr>
        <p:spPr>
          <a:xfrm flipH="1">
            <a:off x="4787640" y="1483200"/>
            <a:ext cx="2305440" cy="1360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CasellaDiTesto 19"/>
          <p:cNvSpPr/>
          <p:nvPr/>
        </p:nvSpPr>
        <p:spPr>
          <a:xfrm>
            <a:off x="7046640" y="237960"/>
            <a:ext cx="203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mani di Gesù 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ria si tocc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prende 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Maria sem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stenere q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tica”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lla segue Gesù fin 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alvario e parteci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 suo dolore e al s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acrificio di a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para così ad am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e suo Figlio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ttore 2 22"/>
          <p:cNvCxnSpPr/>
          <p:nvPr/>
        </p:nvCxnSpPr>
        <p:spPr>
          <a:xfrm flipV="1">
            <a:off x="1979280" y="907560"/>
            <a:ext cx="1943640" cy="721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" name="CasellaDiTesto 24"/>
          <p:cNvSpPr/>
          <p:nvPr/>
        </p:nvSpPr>
        <p:spPr>
          <a:xfrm>
            <a:off x="8280" y="557280"/>
            <a:ext cx="2107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volti della madr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Figlio sono cope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l legno della c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momento pi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uro della sua vi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sente la pres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il conforto di 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ngraziamo 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 dei nos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nitori. Esso 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magine di qu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1231200" y="476280"/>
            <a:ext cx="6735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INCONTR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LE DON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15" descr="Lc 23 - Gesù e le donne di Gerusalemme2.JPG"/>
          <p:cNvPicPr/>
          <p:nvPr/>
        </p:nvPicPr>
        <p:blipFill>
          <a:blip r:embed="rId1"/>
          <a:stretch/>
        </p:blipFill>
        <p:spPr>
          <a:xfrm>
            <a:off x="2124000" y="-6480"/>
            <a:ext cx="4891320" cy="686448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5"/>
          <p:cNvCxnSpPr/>
          <p:nvPr/>
        </p:nvCxnSpPr>
        <p:spPr>
          <a:xfrm flipV="1">
            <a:off x="1547280" y="4220640"/>
            <a:ext cx="864360" cy="50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81000" y="3868560"/>
            <a:ext cx="1942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onosciamo i 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e donn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rusalem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guarda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esù che port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roce con stupor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artecipazio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immagin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i coloro che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sciano scuotere dal dolore degli al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10"/>
          <p:cNvCxnSpPr/>
          <p:nvPr/>
        </p:nvCxnSpPr>
        <p:spPr>
          <a:xfrm>
            <a:off x="1907640" y="620640"/>
            <a:ext cx="86436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Connettore 2 12"/>
          <p:cNvCxnSpPr/>
          <p:nvPr/>
        </p:nvCxnSpPr>
        <p:spPr>
          <a:xfrm>
            <a:off x="1908000" y="620280"/>
            <a:ext cx="410472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CasellaDiTesto 14"/>
          <p:cNvSpPr/>
          <p:nvPr/>
        </p:nvSpPr>
        <p:spPr>
          <a:xfrm>
            <a:off x="96840" y="19692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continu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ortare la cro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sue mani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mett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bbracciare q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gno d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gno del pec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trova la fo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consolarle 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r loro com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il peccato r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dignità dell’uo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ttore 2 17"/>
          <p:cNvCxnSpPr/>
          <p:nvPr/>
        </p:nvCxnSpPr>
        <p:spPr>
          <a:xfrm flipH="1">
            <a:off x="6442920" y="4005360"/>
            <a:ext cx="793080" cy="57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0" name="CasellaDiTesto 20"/>
          <p:cNvSpPr/>
          <p:nvPr/>
        </p:nvSpPr>
        <p:spPr>
          <a:xfrm>
            <a:off x="6948360" y="342900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e d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i loro bamb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pprese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umanità che anc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gi soff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la cattiveria e l’egoismo dell’uo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ano a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è sanno che 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uò comprend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uò ca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ha vissu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dol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21"/>
          <p:cNvCxnSpPr/>
          <p:nvPr/>
        </p:nvCxnSpPr>
        <p:spPr>
          <a:xfrm flipH="1">
            <a:off x="5292360" y="1557000"/>
            <a:ext cx="1944000" cy="1943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CasellaDiTesto 23"/>
          <p:cNvSpPr/>
          <p:nvPr/>
        </p:nvSpPr>
        <p:spPr>
          <a:xfrm>
            <a:off x="6959520" y="328680"/>
            <a:ext cx="208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torna anc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olore r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vest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i adoriamo o Cri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ti benedici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con la t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ant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i amato e red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uomini, il mo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1"/>
          <p:cNvSpPr/>
          <p:nvPr/>
        </p:nvSpPr>
        <p:spPr>
          <a:xfrm>
            <a:off x="-222120" y="1044720"/>
            <a:ext cx="9653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INCONT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IMONE DI CIR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magine 10" descr="Mt 27 - Simone di Cirene1.JPG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5" name="Connettore 2 9"/>
          <p:cNvCxnSpPr/>
          <p:nvPr/>
        </p:nvCxnSpPr>
        <p:spPr>
          <a:xfrm flipH="1">
            <a:off x="3491640" y="4219920"/>
            <a:ext cx="3744360" cy="1513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CasellaDiTesto 12"/>
          <p:cNvSpPr/>
          <p:nvPr/>
        </p:nvSpPr>
        <p:spPr>
          <a:xfrm>
            <a:off x="7005240" y="1700280"/>
            <a:ext cx="201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iamo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Simone 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sostiene 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altra abbrac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fianco dell’alt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segno concr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iuto e sosteg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mone si è lasci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vocare dal do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l condan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ha aiut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anche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iuta Sim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insegna a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ere so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e richieste di ai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ti vengono rivo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gli al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Connettore 2 5"/>
          <p:cNvCxnSpPr/>
          <p:nvPr/>
        </p:nvCxnSpPr>
        <p:spPr>
          <a:xfrm flipH="1" flipV="1">
            <a:off x="6084360" y="1628280"/>
            <a:ext cx="1152000" cy="2592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Connettore 2 7"/>
          <p:cNvCxnSpPr/>
          <p:nvPr/>
        </p:nvCxnSpPr>
        <p:spPr>
          <a:xfrm>
            <a:off x="1908000" y="2565360"/>
            <a:ext cx="144036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6"/>
          <p:cNvSpPr/>
          <p:nvPr/>
        </p:nvSpPr>
        <p:spPr>
          <a:xfrm>
            <a:off x="114840" y="1773360"/>
            <a:ext cx="1985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iamo 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volto di Sim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quello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ugua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no gemel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o ci comu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grande ve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volta che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iutare gli altr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dare un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chi ha bisog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vento come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mia vita assomi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 po’ di più a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8"/>
          <p:cNvCxnSpPr/>
          <p:nvPr/>
        </p:nvCxnSpPr>
        <p:spPr>
          <a:xfrm flipV="1">
            <a:off x="1907640" y="2276280"/>
            <a:ext cx="3025080" cy="289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sellaDiTesto 1"/>
          <p:cNvSpPr/>
          <p:nvPr/>
        </p:nvSpPr>
        <p:spPr>
          <a:xfrm>
            <a:off x="-28440" y="804960"/>
            <a:ext cx="91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MA LA TRADI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 </a:t>
            </a: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CI RACCO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DI UN ALTRO INCON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DI GESÚ: QUELLO CO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LA VERONICA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2:56Z</dcterms:modified>
  <cp:revision>67</cp:revision>
  <dc:subject/>
  <dc:title>Diapositiva 1</dc:title>
</cp:coreProperties>
</file>